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3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AA9-C77B-4181-9328-43AE7B54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23A7-D647-4BC3-A937-D19519AD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7E0-56AE-4DAE-827F-E677AF7E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306-AA5A-4D23-96B0-FAC28F3A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48F-0C0B-4E8C-B06C-994189CA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037-FC17-465B-97FC-75902EFE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5DA-E555-484D-A1BA-BD5B0822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1CE-1A73-4736-98EA-8E597BD6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564-BE9C-4565-B7D0-E0B99234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113-16AD-4898-AA46-1507C175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CCC-80D5-4B58-91F4-254375E6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2CB9-6890-407F-9C30-F90330B1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02C4-90A4-41A8-8791-3937835FC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21课山水做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838800" y="4572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908000" y="1773360"/>
            <a:ext cx="39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Times New Roman"/>
              </a:rPr>
              <a:t>哪儿去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竹篮女"/>
          <p:cNvPicPr/>
          <p:nvPr/>
        </p:nvPicPr>
        <p:blipFill>
          <a:blip r:embed="rId2"/>
          <a:stretch/>
        </p:blipFill>
        <p:spPr>
          <a:xfrm>
            <a:off x="5292720" y="0"/>
            <a:ext cx="3851280" cy="46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春娃娃的花篮哪儿去了？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春天的鲜花0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e00"/>
                </a:solidFill>
                <a:latin typeface="Arial"/>
              </a:rPr>
              <a:t>夏哥哥的绿叶遮住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夏天的草地0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夏哥哥的绿叶哪儿去了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夏天的草地0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秋姐姐借去做地毯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秋天的落叶01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秋姐姐的地毯哪儿去了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秋天的落叶01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冬爷爷的白被子盖住了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冬天的雪地01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5351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冬爷爷的白被子哪儿去了？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冬天的雪地01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5351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盛到春娃娃的花篮里了。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春天的鲜花0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21课山水做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518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大胆想象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437600" cy="44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春娃娃的花篮是什么样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夏哥哥的绿叶指的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秋姐姐的地毯和冬爷爷的白被子是什么样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四季是怎样变化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它们都给你留下了什么印象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u=3906764523,2495698121&amp;fm=59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179280" y="501480"/>
            <a:ext cx="681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动手画一画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360040" y="22827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你喜欢的季节画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080709091014761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1403280" y="1700280"/>
            <a:ext cx="619308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哪   篮   夏   哥   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借   毯   冬   爷   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6_44446_5d64483fecf8902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95280" y="404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去哪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843280" y="40464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花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95280" y="184464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夏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2700360" y="184464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秋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95280" y="335772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借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788000" y="1773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冬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932360" y="40464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地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700360" y="335772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被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4788000" y="335772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姐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68360" y="47973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哥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700360" y="479736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地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4859280" y="47242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"/>
              </a:rPr>
              <a:t>爷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weihua14ke"/>
          <p:cNvPicPr/>
          <p:nvPr/>
        </p:nvPicPr>
        <p:blipFill>
          <a:blip r:embed="rId1"/>
          <a:srcRect l="0" t="0" r="11706" b="7383"/>
          <a:stretch/>
        </p:blipFill>
        <p:spPr>
          <a:xfrm>
            <a:off x="4356000" y="3573360"/>
            <a:ext cx="4788000" cy="328464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 rot="978000">
            <a:off x="6892560" y="-138240"/>
            <a:ext cx="165564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40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读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40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468360" y="9810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哪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843280" y="9810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花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夏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哥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2814480" y="260820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秋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姐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6720" y="4394160"/>
            <a:ext cx="338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春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娃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5292720" y="2565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冬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爷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219640" y="90792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地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979640" y="3284640"/>
            <a:ext cx="201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851280" y="220500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211640" y="256536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 flipV="1" rot="10800000">
            <a:off x="4140000" y="2635920"/>
            <a:ext cx="122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211640" y="256536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211640" y="234936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067280" y="2492280"/>
            <a:ext cx="143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211640" y="2565360"/>
            <a:ext cx="93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Arial"/>
              </a:rPr>
              <a:t>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995640" y="2349360"/>
            <a:ext cx="11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Arial"/>
              </a:rPr>
              <a:t>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211640" y="249228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Arial"/>
              </a:rPr>
              <a:t>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4067280" y="2637000"/>
            <a:ext cx="115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Arial"/>
              </a:rPr>
              <a:t>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3851280" y="256536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Arial"/>
              </a:rPr>
              <a:t>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u=2903474259,3399099355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u=2686032433,3056597523&amp;fm=23&amp;gp=0"/>
          <p:cNvPicPr/>
          <p:nvPr/>
        </p:nvPicPr>
        <p:blipFill>
          <a:blip r:embed="rId2"/>
          <a:stretch/>
        </p:blipFill>
        <p:spPr>
          <a:xfrm>
            <a:off x="0" y="35002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u=3086513139,3892563061&amp;fm=90&amp;gp=0"/>
          <p:cNvPicPr/>
          <p:nvPr/>
        </p:nvPicPr>
        <p:blipFill>
          <a:blip r:embed="rId3"/>
          <a:stretch/>
        </p:blipFill>
        <p:spPr>
          <a:xfrm>
            <a:off x="4500720" y="3524400"/>
            <a:ext cx="4643280" cy="3333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5"/>
          <p:cNvSpPr/>
          <p:nvPr/>
        </p:nvSpPr>
        <p:spPr>
          <a:xfrm>
            <a:off x="5148360" y="1341360"/>
            <a:ext cx="331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春   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u=1937680466,2166745252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4500720" cy="371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u=3030936791,2822956047&amp;fm=23&amp;gp=0"/>
          <p:cNvPicPr/>
          <p:nvPr/>
        </p:nvPicPr>
        <p:blipFill>
          <a:blip r:embed="rId2"/>
          <a:stretch/>
        </p:blipFill>
        <p:spPr>
          <a:xfrm>
            <a:off x="0" y="3718080"/>
            <a:ext cx="4716360" cy="3139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u=708317302,2558548745&amp;fm=23&amp;gp=0"/>
          <p:cNvPicPr/>
          <p:nvPr/>
        </p:nvPicPr>
        <p:blipFill>
          <a:blip r:embed="rId3"/>
          <a:stretch/>
        </p:blipFill>
        <p:spPr>
          <a:xfrm>
            <a:off x="4500720" y="3706920"/>
            <a:ext cx="4643280" cy="3151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8"/>
          <p:cNvSpPr/>
          <p:nvPr/>
        </p:nvSpPr>
        <p:spPr>
          <a:xfrm>
            <a:off x="5632560" y="1197000"/>
            <a:ext cx="256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夏   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u=179103801,706006061&amp;fm=21&amp;gp=0"/>
          <p:cNvPicPr/>
          <p:nvPr/>
        </p:nvPicPr>
        <p:blipFill>
          <a:blip r:embed="rId1"/>
          <a:stretch/>
        </p:blipFill>
        <p:spPr>
          <a:xfrm>
            <a:off x="0" y="3573360"/>
            <a:ext cx="4427640" cy="3284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u=658123879,210810935&amp;fm=23&amp;gp=0"/>
          <p:cNvPicPr/>
          <p:nvPr/>
        </p:nvPicPr>
        <p:blipFill>
          <a:blip r:embed="rId2"/>
          <a:stretch/>
        </p:blipFill>
        <p:spPr>
          <a:xfrm>
            <a:off x="0" y="0"/>
            <a:ext cx="4427640" cy="371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u=2707780648,1401605375&amp;fm=23&amp;gp=0"/>
          <p:cNvPicPr/>
          <p:nvPr/>
        </p:nvPicPr>
        <p:blipFill>
          <a:blip r:embed="rId3"/>
          <a:stretch/>
        </p:blipFill>
        <p:spPr>
          <a:xfrm>
            <a:off x="4427640" y="3716280"/>
            <a:ext cx="4716360" cy="3141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6"/>
          <p:cNvSpPr/>
          <p:nvPr/>
        </p:nvSpPr>
        <p:spPr>
          <a:xfrm>
            <a:off x="5559480" y="1484280"/>
            <a:ext cx="233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秋  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u=1935161035,2289247480&amp;fm=23&amp;gp=0"/>
          <p:cNvPicPr/>
          <p:nvPr/>
        </p:nvPicPr>
        <p:blipFill>
          <a:blip r:embed="rId1"/>
          <a:stretch/>
        </p:blipFill>
        <p:spPr>
          <a:xfrm>
            <a:off x="0" y="3670200"/>
            <a:ext cx="4427640" cy="3187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u=329646298,647292805&amp;fm=23&amp;gp=0"/>
          <p:cNvPicPr/>
          <p:nvPr/>
        </p:nvPicPr>
        <p:blipFill>
          <a:blip r:embed="rId2"/>
          <a:stretch/>
        </p:blipFill>
        <p:spPr>
          <a:xfrm>
            <a:off x="0" y="-58680"/>
            <a:ext cx="4427640" cy="375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u=4181256664,3879411400&amp;fm=23&amp;gp=0"/>
          <p:cNvPicPr/>
          <p:nvPr/>
        </p:nvPicPr>
        <p:blipFill>
          <a:blip r:embed="rId3"/>
          <a:stretch/>
        </p:blipFill>
        <p:spPr>
          <a:xfrm>
            <a:off x="4427640" y="3571920"/>
            <a:ext cx="4897440" cy="3286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5871960" y="1409760"/>
            <a:ext cx="1840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冬   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6:06:21Z</dcterms:created>
  <dc:creator>User</dc:creator>
  <dc:description/>
  <dc:language>en-US</dc:language>
  <cp:lastModifiedBy>Administrator</cp:lastModifiedBy>
  <dcterms:modified xsi:type="dcterms:W3CDTF">2016-11-21T14:01:15Z</dcterms:modified>
  <cp:revision>23</cp:revision>
  <dc:subject/>
  <dc:title>幻灯片 1</dc:title>
</cp:coreProperties>
</file>